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02E0-0408-4C61-8109-51290D2A16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FB4-D29A-49A5-A068-FA5DF85FFC6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A37D-65A3-40E0-BD18-B3048313475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84A-A782-4C23-A49F-77212A1685E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E7E7-E4D0-4569-B9DB-B38FEE11234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668-E6FD-41F9-BB14-F291335D772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2762-0DBB-4637-9E5A-0845A403AE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AD3B-F93E-4785-B2D4-FFCBE9A4B2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739D-155F-4C6F-950C-E031A790A8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32BB-E4AE-4E75-978F-8BEB546BF3E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E0D-2651-4E9D-BDBB-C58B60B2A8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F0E-49E7-49FE-A898-4DEA7F22DA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C04F-5111-4334-BFC5-2EC7E957BA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049-DCED-447B-8EBF-5088155E4C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200A-A407-4AC9-97C3-467CDA20E2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162D3-B100-440A-8205-386A7DD0D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109E9-11DF-4988-BA94-DA04DD826CA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BB03B-CA8F-4BD9-830D-AC71AC93052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718AF-5B52-473C-B41B-F2BBA1BC22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FD52E-DF80-42B3-AE99-F4C7249CEC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E9BC83-4270-4C9D-9E02-C1008B5C4E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70831-CCE1-454C-B3F1-F12664B671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AF7E0-0AC7-428F-8D55-12B73EF846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73D1C-F16A-4956-BF96-24CDB837D6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80334-4A7D-4198-A5E8-380B305892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EE25B-1691-4F89-9ED8-70044508B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36C51-921A-4205-8451-6053720828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AD8E9-FECB-4099-B790-5AA44D0C89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E9B7C-5E69-410B-97DF-BFFB23444B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EAD6F-AD93-43E8-8865-3FF639348E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11345-E545-4958-8F82-B595042B7B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0D019-70E3-4341-8349-2921B32ACD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DF632-D5FE-4B64-82C6-B632D0CA58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4C8E9-C34C-4164-992E-CABE85E0F5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1791A-9782-4C4B-A87E-AA189714D6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2F8A6-D393-4BB6-A3FD-28BD7034F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3244-56F2-4B50-B716-8A9B59E2CD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C9B94-206F-46B7-94BE-B6A6E69A30D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94A07-6C39-4069-B2EB-AAB843FAAE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1A7B0-AC5C-4C1D-9D51-D5128A342E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1F4D-4093-4184-A0A7-283F1166B5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7B38-248A-47BC-B721-A675609F3F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ACEF-08E2-4E2F-AF8A-C9F41710E1B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D03A-28A9-4C72-B83A-869D3640278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626D-849F-4D3C-9C2B-3CF6EBBA6F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031D-7058-46F3-BC5E-4C2640ED5D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C596-4BC7-45F4-82BB-75FC10CE36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C827-5B93-496E-ABB2-B6713C94DE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B281-4EB9-4ABD-91CF-6724F4B543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58C3-2A51-44F5-BE2F-9D8274F001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0174-4334-43B5-8238-14EBD5B0B8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3826-120F-4C71-AE0E-A2DB6A1AF4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D9E7-A5D3-4FAC-BCAF-17BC91F456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3CBCA-05E1-475A-B31D-5B45B3582CD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20F4D-DA34-4C6F-86FB-2E2F0D9AEA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4F61C-80C4-4AB0-9962-0EDBDAA060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BBBE6-20D3-4A6A-BB10-FE4D92BBEB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84DE9-E18A-44CC-9C74-D60315AFF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11EE-DEB1-4256-A526-616FDAB93E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BA628-4F6E-427A-AFE0-8EEC796196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7D10C-56FA-4599-B543-5DCABB3533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4A90E-4D8F-4C6F-B7CB-BC8E41A6396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4972A-1584-4B78-A030-3274415F3C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2C0F9-8AA5-4940-A2F2-99C31EC13D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8C6DB-23EB-4667-9EAD-7ECC71EDD42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1D318-E894-4276-8558-27A7BBD9146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9AE20-386E-4113-A507-603FABA0EDF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7C500-D72A-4DC3-8F43-694E2135DD6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7CBF9-544F-4854-9303-E2B478DBB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7170-03FE-412C-9A9B-3F0D4D93E11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C225F-8AA6-4A22-BFD1-53A3359115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24BCA-28B8-4009-9B37-739AC0A473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D4E52-ECD3-4391-A4C1-210D945D3F2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B2B7D-93AE-4E7C-8A27-3D6E613667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8E2F2-83D5-43CD-9767-48063FFD9F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91405-D50B-4571-B141-F8CEDEDC0D8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E4FA7-391E-4AE1-A84D-9B4E9CC018D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7C861-FE9A-4DA0-A903-46834EB0E4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F1D9F-52ED-4106-AD50-74FAA5922D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B1FA-6F39-427F-8E80-B4BB9F5F4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3069-223D-4761-844D-5DE2C6E3B1F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D904-3205-4FF9-A75D-0A7C8EF8806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23AE-E7F7-47C9-A170-E52BC0EFB6E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9FD2-F5E9-435A-88C1-980C6EDB32E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D8A5-08F5-434D-A99D-6F02CCCD687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86D6-7328-4C69-887E-FCAA65128B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F098-0E8D-4D8C-9651-A7D1044AEF9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A337-1F92-4F44-B248-837C48E636E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A2FB-6C61-4217-9B2F-E077F76736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BC415-E9C0-4E23-91A2-0D7D00EF94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4193-0C3C-4881-A5A5-F9CCA32CC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FC7-7678-4992-9BE0-68F64ABC80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5BF6-51E8-44AD-941E-BC251A69A80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37DE2-4FD1-4F20-B0D9-2C886F42E8A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3BE11-EB74-4E36-96D5-CC25E71397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26724-B5D6-4BED-86A4-5475AAE629A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C52F4-84EC-43A8-908F-66E53F7415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581893-D78C-437C-894E-184B968A45D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8F8F86-A36B-4621-92AC-0AD9780933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D8D5F2-A23A-47BB-9BB8-5511B2382C8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32E5F-FE35-4BAA-8916-631BBDC597B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56FA7-8645-4089-AC2C-3A940F132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0D02-2CBA-44D1-9B13-0E5B29EF774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9A2E5-EBCE-4EE3-9BF9-70A3167B9C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AE9C3-8A63-48A3-8D44-AD7FC1A32C7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1360F-21D5-41CB-8FCD-87F931D56E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56087-DDA4-478E-B176-14DF0FB00DF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41B42-A50F-4BE9-B590-FA4356EBDC0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48CCB-1E8F-40F2-83E2-82E87EA92C6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99EF-5A14-4E45-A34C-84BC803DA45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6A1D6-9BEB-43CE-8FA9-D3C0282DE71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47D75-55DE-422E-9E87-382A5D5808F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C549B-CD41-4C41-8F70-5FAE489C9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1F68-D528-4122-9846-7F8B14599AF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C2482-A7B5-4EA0-B535-09A07C7135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222CC-A73E-4321-916D-DADC39DE1A0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AF6ED-7AD5-42C4-B303-4B085F43456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2F28F-4C30-4BC5-8584-EC4CC520B57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BD4BA-8026-4990-9180-8FBF00C7DA6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204FA-1F30-416F-A199-F7E8C6AF5C3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097F-80A3-4F93-B19C-6872B24FA8A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2726-C34F-4A86-9AD4-EB85C0F8933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3F9E-0F44-4C72-99EB-9DC2E28C10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D478-7CB4-4422-AC8E-E20CC99E31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F9F7-DB2E-47E4-BF70-35A74EEAA88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BC72-1098-4C82-A4BF-6C7592C20B4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42F5-CBD0-4FDA-A811-E9EF75B3425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6AB1-2059-45CF-A7C4-5FB034CBAAF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43F7-6B14-4C9D-A455-FA0BAD6DA06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DA07-1B0B-4CCC-9F15-B136217DDA8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8489-0DAC-4B89-B441-6146599B74B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28CE-BE7F-496D-94B6-95A5E6DABF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5AC73-3019-4982-B02C-1DA04F2A958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06D2C6-AF6B-4BEC-87D3-49108761E57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AF857-075B-4C0E-81C6-8156E6C79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5973-8982-4800-979D-152FC73885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0EF30-097F-4B09-BC95-86D742DD8B0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193D7-5189-4457-B9BB-63E4940F09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9C41E-5679-471B-ACEF-9B29B2EF896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4A3D6C-75B3-4DB3-9155-68062273CFD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F1E5A-F0BF-4399-B7E3-652B158E546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5CB27-D386-445A-8CED-A08027643D3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0BB90-7ABC-46B2-A00F-D456A3A88F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9E704-6141-49F7-B156-D6B0BC2C85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4ACD9E-320F-4E9B-B6A5-66CEDB8D003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352DE-7014-4532-9BD8-9521A726EB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B884-A98A-402D-AFCE-FA6A3DD324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45F09-8E8A-4FAC-A5AB-2C7B3153DE9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AF207-2C01-453A-A906-D7A1969F3F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0C00B-5479-4841-91CC-A70DBEB23C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916F3-3CBB-44E8-8F17-21710886A03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162F8-9FEA-4849-8750-9F46E43E2B3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376C5-ED7E-4540-8A89-C675AFC40B1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2915C-A8FF-45B6-A3F4-D091B53B973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F30A5-2A32-4E58-B9B8-DC303240E53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F7A85-DA50-49AB-905F-B8D3B2BAFAE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89204-1CA8-4AF5-97A0-965B1E12F0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627E-A0ED-425F-BEB0-0F4660F75E3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85ED1-5ADC-4E7E-9E9C-F6F81C707EA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BAEB-9D04-4B07-997D-6A0C1CBA37A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900A-94FA-46AF-9778-70B3562E7B3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9606-CDAD-4FA5-B337-02611A65000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F3E7-521B-4D16-951C-26D03705BF9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4574-6954-43C6-B9DB-9283426464F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D0AB-BABC-406C-A7AA-C57C607CFA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AECC-A17F-4DA8-82A4-D56C2F084AA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9AAB-4C89-4BA0-A974-2BD6D5CB064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1207-F4B0-4E46-95CC-D356435959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3F49-3C0C-4DE4-9B2E-0AA44C8C13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8F239-76CC-4435-B53D-20B148941E8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CFCC2-7E6F-4061-9D93-996D933101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3D2B6-C16A-40EF-8A33-731BD43B23A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0EAD5-0C3F-4B65-BC91-DE3CD6D638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A0572-4CE6-4CBE-B488-DFF972D958D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96211-C359-4C9A-994B-BE70849C653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201846-D552-4C23-812A-66E85A780D7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0B1F8-A867-4B38-A0C7-04CDF5A1CE2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022908-E1AF-46F2-83FC-A4373C52AD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FA7B6-C39D-465C-9A6F-C14FC57357E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3B508D-ADEB-4F6E-97D7-ED643B761CE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22BF0-B2BC-497E-97A9-C2CF59C4AAE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79E98-DBBC-4126-8A2E-89086028FCC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2B559-7452-48B3-97E5-4C0B5EF3F9F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8715E-4003-4517-8835-B006765FED0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5CA33-5818-478C-B75D-C42ED2A0BDA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6C687-93F3-4F37-AC53-2519ABA3FC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481C0-77A2-4A6E-87DC-F2BB190ED57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F3141-3027-4938-9DA7-D02AFF421F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34E0B-B29C-417A-8432-F46B36C0ABF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FB67D-3A4C-4F66-A18F-67A57FFBF0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2161F-5081-4629-9AA5-55ADF114F63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4C537-9FB4-4A06-83EB-45507E62D45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733F5-C06D-4864-A669-C7713C3283A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FC458-D9BD-4B69-A326-45E1178AC22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79BE3-7615-4731-B538-E708A59580C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0B12-1728-4A50-B714-E60C6FAB852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DA5E-F7B2-4488-BABA-D7804FA5227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FF22-28BB-4E06-B075-B1797EC92A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45E2-5A9D-407A-A440-60106135642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F978-01AB-4B01-BF2D-D265FD050A9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1FD6-E2B8-48CC-ACA1-5201254726B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112D-5DAB-4509-873B-7EA2E35954B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3692-F82A-412B-9A16-002D546CC20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6ACB-7CD8-4923-802A-7362236CB6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1541-3F8F-432B-AA50-3F7C72FC2E7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56A9-92E6-4206-ACC1-B51A33DCE6F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095D-45BA-4D9D-AC2E-23E50B9A88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2B020-C9CF-4C59-BE67-A59C8CF25A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7A9F8-5673-464F-8C59-F58ACF9F648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29F2F-3A93-4C5D-9978-ED9429341DE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29B55-854E-4519-8B6B-B258F0D26AD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29416-290A-441B-9BE5-49BFA0600DD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0CB2D-AF3F-4901-9E84-DA9024654C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83B4A-9199-4232-9293-FBBC05B2A2E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00A6D-5F00-4391-9197-24BDE3D8616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B5E5AB-A3C9-417A-84B3-D685BCB162A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1363D-C4A6-4B52-927A-4C05245779B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2E657E-D548-4C41-9F41-FD7638162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3E7E4B-215B-4A96-9C2E-1CDA4023FF1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1D91D-527D-46D3-9183-663A79E8851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B6480-DDBA-4857-8FA7-1B0AF094AE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4E54E-7081-44F0-B9EB-D20DE94FD64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C900C-D4FE-4E0A-B804-85D2F241946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01151-2A6E-42EC-ACF0-AAA8F48B5D3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5F1B3-FA90-4A99-A298-81D79E14D23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DE7FA-B539-4EBE-8AA1-3FFADA9DDD9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83EB5-7B0B-4A27-AD9B-728099144D9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39DCD-14E7-4389-8F06-346DC942F0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33AFF-2074-44A2-B1FB-FC3C2DE3F85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9EC8B-B477-42E1-BDDA-1000DE5C47E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3D12C-487A-4A89-83F4-8131BC2A197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995E-7972-4C51-BD59-621F6BD28B1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C540-E5FE-45D3-9BEF-D2AB2E4E737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1E71-C239-42B8-8FFF-F97A1CC1FEC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507FA-6830-4195-AF22-9F42D23D632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9D9E-D220-40CE-859E-C485D2BD466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0816-EA67-419D-BBFF-37E2FF9D836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B03D-FECD-416E-B0B9-E6B20EC5FB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2002-E8D5-46E5-AD14-F38A29A5194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22DD-23F3-4B33-8FF9-9F6CF14772C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A3CF-5627-49DA-B967-816BB963CA7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8E60D-9426-464F-AC69-1F9EC53E826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7FA0-2F08-42F2-B501-7E13AF40B94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456C-2573-4796-8052-1C7D52E1B6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CA91-D414-4208-A859-AAD361BF38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5F6D-A7E0-4201-8559-6DED11A48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8DED-EBBD-491C-B004-CE4D1AD559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0FC2-5598-4AE0-9064-659CC4A673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277D-F61B-443F-B7A4-31A1469432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3B87-8F64-44B8-A4DB-BA4B97A423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0BC2-619D-4730-9BF9-C408C22110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53B0-29BD-49AF-8777-A6C2851EA7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FF86-A463-42C3-8E51-35A46D2AB8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8F8D-8B40-49A7-A690-0BCE46CB42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887F-1CA9-4202-B4CE-FDD254843B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475-8E4C-4C44-B24E-7BC12F9AF5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94E-3B65-4B55-B6CE-CB8AC348FA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133-A457-425B-86BF-76DDBE220E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E6A-94C4-41C4-AE1A-88408F853D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985-E63B-4935-826C-77C444BA72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F60-39C8-4E11-BF3B-117EF63A78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CA4-A814-4CB4-9026-EEEE6E10DA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5B2-62BB-44CF-BB77-B95B674D80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162-F518-47CF-A783-71B3E7CE9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C2C-E72C-4435-A9A6-5504C38A21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B90-D6AF-4D48-824B-12A9E6DAE1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1AE-47FB-4422-992F-834888ABE0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D9C52-11F2-41DD-94E3-8252F37C1D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D8BE-48FD-4F5B-952B-F32F0F7AB3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B731E-0F05-48D0-AAEA-8F015EBD8C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45FE8-142D-4F08-BDD7-01082D5B2C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E33B9-8C77-47C5-89B0-07B5727851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E0E2-56A1-4CC0-B628-99C5134886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B489-9976-410C-A602-72B47106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D5257-A37C-4639-AA54-930A412644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0A157-5689-40D8-A21D-2E1C5C61FA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0B9F-C386-48DF-80EB-0729CF9821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3FD00-A790-4E8C-A5B5-3AB355E082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4C29A-68A6-4B21-A13C-A6D0E98142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AF006-DF27-4D71-9313-B20B74571F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B290-1F03-451E-9EBD-32CCBDE8E7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9000-E58C-4101-81C0-51B4269243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3389-9545-4591-A2C7-275BE0B98E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8BCCF-6D0B-44DA-B57D-8155D7CA4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5C0D5-260B-4B85-A986-71B6A09FF5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38C06-6A1C-46B9-ABCF-4AC1F30D29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1DE80-2DEC-43BD-AC78-96ABA17CFFD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4F57-E891-4FA5-ACDD-0F2343832F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B1DB-AC5E-4033-B481-905508B707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5D9D6-1E1E-4B2E-955D-039ACF6645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0EFDB-BD4C-4E47-8BE4-9918E40326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D86-777E-431D-8CEE-C2042BBED4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A2E-3E11-412C-86A2-7AE508BD3B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264-7D72-40E7-8462-E5D8479CB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3520-7724-4798-905C-ABDF3958250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F6B-E812-4CAF-868A-38E389F6050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FC6-BA4C-4FED-9C37-67590AA8F09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820-6B91-40B8-BC74-410824FDBBE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A5D-3BF8-4F9D-BECC-BAF91EC1071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BF9-1027-4976-8132-64380EFFD5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D82-8DCF-4E86-B63C-CFE1ECD031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669A-370E-466D-A5A0-019631F8446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877-E0EF-438C-9A57-DC8DD0D0408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91A-DFF1-427F-938F-B8AFCB2E48D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CF09-DF64-4880-92B2-FEB84A8FD1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3B6-2886-4340-80CE-C35BC128B71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21C9-2118-4A39-B34B-7C679633683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08FB-4FDD-4E76-B5F8-DB1B8C84F6A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3F0-C9F7-473B-9B11-0594D2B94E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6F9-926C-4EB7-8982-D9B46084D4D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A81-94D6-4460-9EA8-817CD22D996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C7E-B393-44CC-BD68-60C2524121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51F1-013D-4211-9953-FE1F9AB1019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1A2-7C6B-4A39-BF18-21F3841DB81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D617-5FF1-4B48-AC9F-B55A4A81C1A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C95-1C50-4E49-9D6A-719B0151C6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A97-28B9-4DE1-BC34-F0EAF09FD1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D94-1AE0-4914-AEEB-EC249AEAE9F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7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8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3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625760" y="1535040"/>
            <a:ext cx="5636880" cy="3505320"/>
          </a:xfrm>
          <a:prstGeom prst="rect">
            <a:avLst/>
          </a:prstGeom>
          <a:ln w="0">
            <a:noFill/>
          </a:ln>
        </p:spPr>
      </p:pic>
      <p:sp>
        <p:nvSpPr>
          <p:cNvPr id="132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332000" y="69228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2 Imagen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64360" cy="2071800"/>
          </a:xfrm>
          <a:prstGeom prst="rect">
            <a:avLst/>
          </a:prstGeom>
          <a:ln w="0">
            <a:noFill/>
          </a:ln>
        </p:spPr>
      </p:pic>
      <p:sp>
        <p:nvSpPr>
          <p:cNvPr id="1328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403280" y="333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hoc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541440" y="1552680"/>
            <a:ext cx="8043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412920" y="2205000"/>
            <a:ext cx="828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8764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81080" y="2421000"/>
            <a:ext cx="31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843280" y="765000"/>
            <a:ext cx="6121440" cy="206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Rectángulo"/>
          <p:cNvSpPr/>
          <p:nvPr/>
        </p:nvSpPr>
        <p:spPr>
          <a:xfrm>
            <a:off x="298764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82880" y="206280"/>
            <a:ext cx="6153120" cy="5526360"/>
          </a:xfrm>
          <a:prstGeom prst="rect">
            <a:avLst/>
          </a:prstGeom>
          <a:ln w="0">
            <a:noFill/>
          </a:ln>
        </p:spPr>
      </p:pic>
      <p:sp>
        <p:nvSpPr>
          <p:cNvPr id="1270" name="6 CuadroTexto"/>
          <p:cNvSpPr/>
          <p:nvPr/>
        </p:nvSpPr>
        <p:spPr>
          <a:xfrm>
            <a:off x="406440" y="4911840"/>
            <a:ext cx="224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mayo – octubre 20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947880" y="1488960"/>
            <a:ext cx="7184880" cy="4230720"/>
          </a:xfrm>
          <a:prstGeom prst="rect">
            <a:avLst/>
          </a:prstGeom>
          <a:ln w="0">
            <a:noFill/>
          </a:ln>
        </p:spPr>
      </p:pic>
      <p:sp>
        <p:nvSpPr>
          <p:cNvPr id="12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09 -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92160" y="1484280"/>
            <a:ext cx="7269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Quibdó</a:t>
            </a:r>
            <a:br>
              <a:rPr sz="2200"/>
            </a:b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14 - 2015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4-12-01T21:57:13Z</cp:lastPrinted>
  <dcterms:modified xsi:type="dcterms:W3CDTF">2015-12-10T22:03:08Z</dcterms:modified>
  <cp:revision>200</cp:revision>
  <dc:subject/>
  <dc:title>Diapositiva 1</dc:title>
</cp:coreProperties>
</file>